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0A2A1-79AB-4F13-8C64-B3FA3082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2CAD5-407C-4063-A9D9-32A97C30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CA513-4843-4540-AF5A-3C85DFF5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18E6A-9527-4A2E-BA3C-69C49C27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BCFA-030D-40A8-A0D4-532F43C5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46BC-83FA-403A-B3FA-B11CF5EF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A7CA-BE8F-4F1F-80D5-992C225D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2451-2655-41F2-B860-D6271ACD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ED6E-3429-4880-8095-8B99E3B1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DFFB-0E87-448E-A395-944326DA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352D-2B83-4341-8758-8CF0174B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F2DA7-D1B9-48B5-B0B6-53F3FCC4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6A0B-0697-40F0-9D12-2D43511D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851D-2F3F-4C1B-AA20-5A6528DA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6A8C-50D3-4EDF-909C-845021D7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D9D9-FF62-45A2-B9AF-2EEB839B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3A6F-535C-449B-80E3-B7143E86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8332A-2938-4345-ACF6-66BF4DAF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01FD9-D81E-4486-A693-332EF038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22D9C-6FC3-4E9B-83DE-9C9B4C2D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90365-EE17-4FB3-892E-CA239C00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BAEB5-A77D-44CA-9247-A0BFA5E9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953F9-87B8-45C6-8E58-C2F30B0E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EA95D-3714-4452-95C0-BB966912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484360" y="260280"/>
            <a:ext cx="612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48720" y="304920"/>
            <a:ext cx="3952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EAE3-D5F6-4B9F-8CD9-A93C927A2C2A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5076720" y="6308280"/>
            <a:ext cx="144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468360" y="6308280"/>
            <a:ext cx="4464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02920" y="2130120"/>
            <a:ext cx="70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CDFF-2D6C-4F04-B636-AA4EA2FAA093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ED8F-F8E8-4797-A8BC-C21920DF3C9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2131920"/>
            <a:ext cx="79930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r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uropass Website Redes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76720" y="5873760"/>
            <a:ext cx="2692440" cy="5079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58400" y="3382560"/>
            <a:ext cx="69454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 Sneak Pe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5327640"/>
            <a:ext cx="69454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mitris Zavaliadis, Europass Technical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4390920"/>
            <a:ext cx="6945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C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laga, 10 May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design’s Main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50120" y="1557360"/>
            <a:ext cx="2658960" cy="4005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4000" y="2852640"/>
            <a:ext cx="6119640" cy="1944720"/>
          </a:xfrm>
          <a:prstGeom prst="foldedCorner">
            <a:avLst>
              <a:gd name="adj" fmla="val 125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Improve th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4800" spc="-1" strike="noStrike">
                <a:solidFill>
                  <a:srgbClr val="0066ff"/>
                </a:solidFill>
                <a:latin typeface="Arial"/>
              </a:rPr>
              <a:t>User Experi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D14DA-E01D-4C25-B365-C006218EBE9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340000" y="1628640"/>
            <a:ext cx="4484520" cy="4286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pects of User Experience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5302080"/>
            <a:ext cx="3313080" cy="935280"/>
          </a:xfrm>
          <a:prstGeom prst="wedgeRoundRectCallout">
            <a:avLst>
              <a:gd name="adj1" fmla="val 36439"/>
              <a:gd name="adj2" fmla="val -98046"/>
              <a:gd name="adj3" fmla="val 16667"/>
            </a:avLst>
          </a:prstGeom>
          <a:solidFill>
            <a:srgbClr val="bbe0e3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You can’t use what you can’t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9800" y="4581360"/>
            <a:ext cx="2519280" cy="1224000"/>
          </a:xfrm>
          <a:prstGeom prst="wedgeRoundRectCallout">
            <a:avLst>
              <a:gd name="adj1" fmla="val -63800"/>
              <a:gd name="adj2" fmla="val -45717"/>
              <a:gd name="adj3" fmla="val 16667"/>
            </a:avLst>
          </a:prstGeom>
          <a:solidFill>
            <a:srgbClr val="bbe0e3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You can’t use what you can’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48360" y="2637000"/>
            <a:ext cx="2016360" cy="1655640"/>
          </a:xfrm>
          <a:prstGeom prst="wedgeRoundRectCallout">
            <a:avLst>
              <a:gd name="adj1" fmla="val -71180"/>
              <a:gd name="adj2" fmla="val -10115"/>
              <a:gd name="adj3" fmla="val 16667"/>
            </a:avLst>
          </a:prstGeom>
          <a:solidFill>
            <a:srgbClr val="bbe0e3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00"/>
                </a:solidFill>
                <a:latin typeface="Arial"/>
              </a:rPr>
              <a:t>Humans are visible beings after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000" y="1484280"/>
            <a:ext cx="3241800" cy="865080"/>
          </a:xfrm>
          <a:prstGeom prst="wedgeRoundRectCallout">
            <a:avLst>
              <a:gd name="adj1" fmla="val 32958"/>
              <a:gd name="adj2" fmla="val 83759"/>
              <a:gd name="adj3" fmla="val 16667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ase of use is vital but not su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5950080"/>
            <a:ext cx="4321080" cy="577800"/>
          </a:xfrm>
          <a:prstGeom prst="wedgeRoundRectCallout">
            <a:avLst>
              <a:gd name="adj1" fmla="val -41879"/>
              <a:gd name="adj2" fmla="val -148902"/>
              <a:gd name="adj3" fmla="val 16667"/>
            </a:avLst>
          </a:prstGeom>
          <a:solidFill>
            <a:srgbClr val="bbe0e3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Trust is key to persu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64000" y="1557360"/>
            <a:ext cx="3095640" cy="576360"/>
          </a:xfrm>
          <a:prstGeom prst="wedgeRoundRectCallout">
            <a:avLst>
              <a:gd name="adj1" fmla="val -57537"/>
              <a:gd name="adj2" fmla="val 66805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Relevance is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3213000"/>
            <a:ext cx="2376360" cy="1224000"/>
          </a:xfrm>
          <a:prstGeom prst="wedgeRoundRectCallout">
            <a:avLst>
              <a:gd name="adj1" fmla="val 114597"/>
              <a:gd name="adj2" fmla="val -5513"/>
              <a:gd name="adj3" fmla="val 16667"/>
            </a:avLst>
          </a:prstGeom>
          <a:solidFill>
            <a:srgbClr val="bbe0e3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The bottom 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delive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6524640"/>
            <a:ext cx="73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a.k.a. the User Experience Honeycomb (Peter Morvil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9154-06DB-434E-8E38-69025A7109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340000" y="1628640"/>
            <a:ext cx="4484520" cy="42865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4960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isting Website vs. Honeyco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95640" y="4797360"/>
            <a:ext cx="792000" cy="792360"/>
          </a:xfrm>
          <a:prstGeom prst="smileyFace">
            <a:avLst>
              <a:gd name="adj" fmla="val -30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0920" y="2060640"/>
            <a:ext cx="792360" cy="792000"/>
          </a:xfrm>
          <a:prstGeom prst="smileyFace">
            <a:avLst>
              <a:gd name="adj" fmla="val -30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11640" y="1341360"/>
            <a:ext cx="792000" cy="792360"/>
          </a:xfrm>
          <a:prstGeom prst="smileyFace">
            <a:avLst>
              <a:gd name="adj" fmla="val 230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00720" y="4724280"/>
            <a:ext cx="792360" cy="792360"/>
          </a:xfrm>
          <a:prstGeom prst="smileyFace">
            <a:avLst>
              <a:gd name="adj" fmla="val -465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27640" y="1989000"/>
            <a:ext cx="792360" cy="792360"/>
          </a:xfrm>
          <a:prstGeom prst="smileyFace">
            <a:avLst>
              <a:gd name="adj" fmla="val -465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2560" y="5445000"/>
            <a:ext cx="792360" cy="792360"/>
          </a:xfrm>
          <a:prstGeom prst="smileyFace">
            <a:avLst>
              <a:gd name="adj" fmla="val 230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89320" y="2781360"/>
            <a:ext cx="792360" cy="792000"/>
          </a:xfrm>
          <a:prstGeom prst="smileyFace">
            <a:avLst>
              <a:gd name="adj" fmla="val -30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8000" y="3213000"/>
            <a:ext cx="2160360" cy="1152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es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cuses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0920" y="2060640"/>
            <a:ext cx="792360" cy="79200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95640" y="4797360"/>
            <a:ext cx="792000" cy="79236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00720" y="4724280"/>
            <a:ext cx="792360" cy="79236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27640" y="1989000"/>
            <a:ext cx="792360" cy="79236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89320" y="5445000"/>
            <a:ext cx="792360" cy="79236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11640" y="1341360"/>
            <a:ext cx="792000" cy="79236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89320" y="2781360"/>
            <a:ext cx="792360" cy="79200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5800" y="1844640"/>
            <a:ext cx="1727280" cy="20890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might increase even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4360" y="4292640"/>
            <a:ext cx="1727280" cy="1584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 therefore the overa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5756F-EA62-499A-AA2B-7C9373D8DC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me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Nav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cal Nav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rt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 Usability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0986D-64FF-4007-8019-6F6E8D4B7E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e-tu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s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 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ice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rch engine optim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A4E40-74BB-4C63-994A-FF109D3D0F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ep. 201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Launch of new site in parallel with the curren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ec. 201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Old site st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ec. 201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Instruments redesign specs compl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ep. 201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Launch of new instruments in parallel with the curren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ec. 201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Old instruments sto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5362B-FA6B-480D-827D-223502C05D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5C2FE-8EEE-44D1-9CE7-22DA2066802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11:45:30Z</dcterms:created>
  <dc:creator>Zavaliadis Dimitris</dc:creator>
  <dc:description/>
  <dc:language>en-US</dc:language>
  <cp:lastModifiedBy>europassx3</cp:lastModifiedBy>
  <dcterms:modified xsi:type="dcterms:W3CDTF">2011-05-06T18:43:21Z</dcterms:modified>
  <cp:revision>1649</cp:revision>
  <dc:subject/>
  <dc:title>Europass cooperation with external applications</dc:title>
</cp:coreProperties>
</file>